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32A8-2B95-46B0-A872-49E8B8A0147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917640" y="744480"/>
            <a:ext cx="4962600" cy="3722760"/>
          </a:xfrm>
          <a:prstGeom prst="rect">
            <a:avLst/>
          </a:prstGeom>
          <a:ln w="0">
            <a:noFill/>
          </a:ln>
        </p:spPr>
      </p:sp>
      <p:sp>
        <p:nvSpPr>
          <p:cNvPr id="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164C-AF94-4EA0-AA39-DD19577BBCD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17640" y="744480"/>
            <a:ext cx="4962600" cy="3722760"/>
          </a:xfrm>
          <a:prstGeom prst="rect">
            <a:avLst/>
          </a:prstGeom>
          <a:ln w="0">
            <a:noFill/>
          </a:ln>
        </p:spPr>
      </p:sp>
      <p:sp>
        <p:nvSpPr>
          <p:cNvPr id="10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rinkly old pussy. Fuck your mum</a:t>
            </a:r>
            <a:endParaRPr b="0" lang="en-US" sz="1200" spc="-1" strike="noStrike">
              <a:solidFill>
                <a:srgbClr val="000000"/>
              </a:solidFill>
              <a:latin typeface="Calibri"/>
            </a:endParaRPr>
          </a:p>
        </p:txBody>
      </p:sp>
      <p:sp>
        <p:nvSpPr>
          <p:cNvPr id="1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B320-D813-405B-A233-19AFCCB5722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17640" y="744480"/>
            <a:ext cx="4962600" cy="3722760"/>
          </a:xfrm>
          <a:prstGeom prst="rect">
            <a:avLst/>
          </a:prstGeom>
          <a:ln w="0">
            <a:noFill/>
          </a:ln>
        </p:spPr>
      </p:sp>
      <p:sp>
        <p:nvSpPr>
          <p:cNvPr id="1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CB Principal phoning ah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Ger. Crying</a:t>
            </a:r>
            <a:endParaRPr b="0" lang="en-US" sz="1200" spc="-1" strike="noStrike">
              <a:solidFill>
                <a:srgbClr val="000000"/>
              </a:solidFill>
              <a:latin typeface="Calibri"/>
            </a:endParaRPr>
          </a:p>
        </p:txBody>
      </p:sp>
      <p:sp>
        <p:nvSpPr>
          <p:cNvPr id="1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FB97-3152-4840-83A5-EC44C9E5F4D0}"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17640" y="744480"/>
            <a:ext cx="4962600" cy="3722760"/>
          </a:xfrm>
          <a:prstGeom prst="rect">
            <a:avLst/>
          </a:prstGeom>
          <a:ln w="0">
            <a:noFill/>
          </a:ln>
        </p:spPr>
      </p:sp>
      <p:sp>
        <p:nvSpPr>
          <p:cNvPr id="1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KH moving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Gibble</a:t>
            </a:r>
            <a:endParaRPr b="0" lang="en-US" sz="1200" spc="-1" strike="noStrike">
              <a:solidFill>
                <a:srgbClr val="000000"/>
              </a:solidFill>
              <a:latin typeface="Calibri"/>
            </a:endParaRPr>
          </a:p>
        </p:txBody>
      </p:sp>
      <p:sp>
        <p:nvSpPr>
          <p:cNvPr id="1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B917-9E92-40EA-9B1F-8CE547DCFE97}"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17640" y="744480"/>
            <a:ext cx="4962600" cy="3722760"/>
          </a:xfrm>
          <a:prstGeom prst="rect">
            <a:avLst/>
          </a:prstGeom>
          <a:ln w="0">
            <a:noFill/>
          </a:ln>
        </p:spPr>
      </p:sp>
      <p:sp>
        <p:nvSpPr>
          <p:cNvPr id="8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 work with the small percentage of children at the end of the behaviour scale, so you may or may not encounter these extreme behaviours. The behaviours didn’t start at this extreme level. It may have begun with something as simple as not doing what they were told! If the child hasn’t learnt appropriate ways to behave then the negative behaviours can snowball.</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53739-8A0E-4AEE-95B9-ED3A28982B6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917640" y="744480"/>
            <a:ext cx="4962600" cy="3722760"/>
          </a:xfrm>
          <a:prstGeom prst="rect">
            <a:avLst/>
          </a:prstGeom>
          <a:ln w="0">
            <a:noFill/>
          </a:ln>
        </p:spPr>
      </p:sp>
      <p:sp>
        <p:nvSpPr>
          <p:cNvPr id="8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hy are the children challen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9801-FD61-4FB4-A7C2-0249430B125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917640" y="744480"/>
            <a:ext cx="4962600" cy="3722760"/>
          </a:xfrm>
          <a:prstGeom prst="rect">
            <a:avLst/>
          </a:prstGeom>
          <a:ln w="0">
            <a:noFill/>
          </a:ln>
        </p:spPr>
      </p:sp>
      <p:sp>
        <p:nvSpPr>
          <p:cNvPr id="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hy are the children challen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ome issues, school issues, neglect, deprivation, other things on their mind, lack of boundaries, inconsistencies, lack of routines, lack of nurturing, medical conditions (Foetal Alcohol Effect/Syndrome, ADHD, Aspergers Syndrome,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39C1-EFB0-4A82-AE81-AEB31406A77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917640" y="744480"/>
            <a:ext cx="4962600" cy="3722760"/>
          </a:xfrm>
          <a:prstGeom prst="rect">
            <a:avLst/>
          </a:prstGeom>
          <a:ln w="0">
            <a:noFill/>
          </a:ln>
        </p:spPr>
      </p:sp>
      <p:sp>
        <p:nvSpPr>
          <p:cNvPr id="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urning 2 houses, 24hr minder, never to have unsupervised contact with other children </a:t>
            </a:r>
            <a:endParaRPr b="0" lang="en-US" sz="1200" spc="-1" strike="noStrike">
              <a:solidFill>
                <a:srgbClr val="000000"/>
              </a:solidFill>
              <a:latin typeface="Calibri"/>
            </a:endParaRPr>
          </a:p>
        </p:txBody>
      </p:sp>
      <p:sp>
        <p:nvSpPr>
          <p:cNvPr id="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3370-28B7-47BD-8909-A4BC04134642}"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17640" y="744480"/>
            <a:ext cx="4962600" cy="3722760"/>
          </a:xfrm>
          <a:prstGeom prst="rect">
            <a:avLst/>
          </a:prstGeom>
          <a:ln w="0">
            <a:noFill/>
          </a:ln>
        </p:spPr>
      </p:sp>
      <p:sp>
        <p:nvSpPr>
          <p:cNvPr id="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elonging- fractured families, unfriendly schools, rejection from peers can cause a sense of alienation. Children alienated from positive adults and peers are emotionally and morally adrift</a:t>
            </a:r>
            <a:endParaRPr b="0" lang="en-US" sz="1200" spc="-1" strike="noStrike">
              <a:solidFill>
                <a:srgbClr val="000000"/>
              </a:solidFill>
              <a:latin typeface="Calibri"/>
            </a:endParaRPr>
          </a:p>
        </p:txBody>
      </p:sp>
      <p:sp>
        <p:nvSpPr>
          <p:cNvPr id="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8577-ADED-4006-9F60-32CA1AF8554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3EC35-0EBC-496B-B6B0-9330240BA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260E8-7F8D-4B80-A038-2BAA2D06A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5372A-C1CE-4322-B476-A55D4E5A9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A4273-AFFC-4C08-A6F9-EBC963DD7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DACCB-ED59-42F0-B44A-367E30F44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61182-F1C2-4ED7-858C-B5F64724C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43029-804A-4D67-9DF6-8DCE750AD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CE76C-C5E1-4163-8143-CBC1DEC7E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AF96E-51AC-41B3-97A3-FAD25ED69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DA0A5-DFB7-4DD0-BF14-E08DFD40B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9495F-9892-4E60-8026-9669A6159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7A7E2-276C-47E7-B275-674E1A207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0FD2-CB74-48F2-832B-129045D7ACEC}"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000000"/>
                </a:solidFill>
                <a:latin typeface="Calibri"/>
              </a:rPr>
              <a:t>Kids</a:t>
            </a:r>
            <a:r>
              <a:rPr b="0" lang="en-NZ" sz="4000" spc="-1" strike="noStrike">
                <a:solidFill>
                  <a:srgbClr val="000000"/>
                </a:solidFill>
                <a:latin typeface="Calibri"/>
              </a:rPr>
              <a:t> </a:t>
            </a:r>
            <a:r>
              <a:rPr b="0" lang="en-NZ" sz="7200" spc="-1" strike="noStrike">
                <a:solidFill>
                  <a:srgbClr val="000000"/>
                </a:solidFill>
                <a:latin typeface="Calibri"/>
              </a:rPr>
              <a:t>Stuff Up! </a:t>
            </a:r>
            <a:br>
              <a:rPr sz="4000"/>
            </a:br>
            <a:r>
              <a:rPr b="0" lang="en-NZ" sz="4000" spc="-1" strike="noStrike">
                <a:solidFill>
                  <a:srgbClr val="000000"/>
                </a:solidFill>
                <a:latin typeface="Calibri"/>
              </a:rPr>
              <a:t>Get Over It!</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898989"/>
                </a:solidFill>
                <a:latin typeface="Calibri"/>
              </a:rPr>
              <a:t>Kelvin Hil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898989"/>
                </a:solidFill>
                <a:latin typeface="Calibri"/>
              </a:rPr>
              <a:t>2009 Eastnet Cluster ICT Exp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Build self esteem</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If </a:t>
            </a:r>
            <a:r>
              <a:rPr b="1" lang="en-NZ" sz="4400" spc="-1" strike="noStrike">
                <a:solidFill>
                  <a:srgbClr val="000000"/>
                </a:solidFill>
                <a:latin typeface="Calibri"/>
              </a:rPr>
              <a:t>success</a:t>
            </a:r>
            <a:r>
              <a:rPr b="0" lang="en-NZ" sz="4400" spc="-1" strike="noStrike">
                <a:solidFill>
                  <a:srgbClr val="000000"/>
                </a:solidFill>
                <a:latin typeface="Calibri"/>
              </a:rPr>
              <a:t> builds </a:t>
            </a:r>
            <a:r>
              <a:rPr b="1" lang="en-NZ" sz="4400" spc="-1" strike="noStrike">
                <a:solidFill>
                  <a:srgbClr val="000000"/>
                </a:solidFill>
                <a:latin typeface="Calibri"/>
              </a:rPr>
              <a:t>success</a:t>
            </a:r>
            <a:endParaRPr b="0" lang="en-US" sz="44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what is </a:t>
            </a:r>
            <a:r>
              <a:rPr b="1" lang="en-NZ" sz="4400" spc="-1" strike="noStrike">
                <a:solidFill>
                  <a:srgbClr val="000000"/>
                </a:solidFill>
                <a:latin typeface="Calibri"/>
              </a:rPr>
              <a:t>failure</a:t>
            </a:r>
            <a:r>
              <a:rPr b="0" lang="en-NZ" sz="4400" spc="-1" strike="noStrike">
                <a:solidFill>
                  <a:srgbClr val="000000"/>
                </a:solidFill>
                <a:latin typeface="Calibri"/>
              </a:rPr>
              <a:t> going to bui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Taking the crap...can be hard work</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These kids can wear you dow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Blaming yourself is not productive, especially if you didn’t cause the probl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As teachers we are there to help so our energy is better spent sorting out the issu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Ask for and get help, from colleagues, Senco, RTLB, GSE, specialist teachers, the ne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The greater the challenge the more dramatic the results will b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Find something that helps you blow off stea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Experts at Arguing</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Most of these kids are experts at giving teachers “stick” and winding them through the roo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void the argument cycle – don’t buy into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alking away from a situation is a choice you can make and it shows good decision making not weakn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hen man throw spear of insult at head,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move hea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Spear miss target, leave man empty handed, spear in wall, not in you.</a:t>
            </a:r>
            <a:endParaRPr b="0" lang="en-US" sz="32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George Thompson, Verbal Judo (199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Pick your battle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know when to walk away, and know when t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Be clever about what to ign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Picking on every small thing can wear you both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Making a mountain out of a mole hill can backfire on y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Distraction 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Making mistake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In school mistakes happen every day, and sometimes the kids even make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Celebrate mistak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Encourage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Learn from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ould you rather kids make big mistakes now or when they are an ad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A second chance?</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Many of these kids have experienced a huge amount of failure and rejection, and they are expecting you to give up on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Giving them a second chance can show them you c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How many second chances do you give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Is there an answ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Giving up on them</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 common solution is to expel/stand down/suspend the student – does this solve the probl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Doesn’t this expose all of us to the negative conseque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If changes can’t be made then maybe a more suitable place needs to be found for th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Every student has potential it just needs to be tapped and nurtur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Tools I use</a:t>
            </a:r>
            <a:endParaRPr b="0" lang="en-US" sz="4400" spc="-1" strike="noStrike">
              <a:solidFill>
                <a:srgbClr val="000000"/>
              </a:solidFill>
              <a:latin typeface="Calibri"/>
            </a:endParaRPr>
          </a:p>
        </p:txBody>
      </p:sp>
      <p:sp>
        <p:nvSpPr>
          <p:cNvPr id="81" name=""/>
          <p:cNvSpPr txBox="1"/>
          <p:nvPr/>
        </p:nvSpPr>
        <p:spPr>
          <a:xfrm>
            <a:off x="428760" y="1214280"/>
            <a:ext cx="8229600" cy="5214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ww.disciplinehelp.c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Smart board – handwriting, vocabulary, spelling, mat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s many hands-on activities as poss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ww.bannatynereadingprogram.c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ww.braingrade.c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ww.crayonphysics.c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Reading pen www.wizcomtech.c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Easi-speak mic  www.tts-shopping.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About M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kelvinhi@waimokoia.school.n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Warning</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hat I say may not be fa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here will be exceptions to every ru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Please disagree if you even get the slightest urge to – I have been known to make mistak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sk questions! Together we should be able to find solutions to any probl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Some content may offen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alibri"/>
              </a:rPr>
              <a:t>Why are these children challenging?</a:t>
            </a: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home or school iss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neglect, deprivation, abus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lack of boundaries, inconsistenci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lack of routines, lack of nurtur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other important things on their min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medical conditions like ADHD, Asperger’s Syndrome, Foetal Alcohol Effect or  Syndrome, Anxiety, OC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Boredom or lack of stimul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All behaviour has a reason</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o get what they want or ne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o avoid what they don’t w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All children need ...</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o feel that they belo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o achieve suc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o learn to make responsible decisions – only responsibility teaches responsi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o develop their natural abilities to show care and contribute to oth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s educators we should give opportunities to provide for these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These Kids have their own logic</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Fight </a:t>
            </a:r>
            <a:r>
              <a:rPr b="0" lang="en-NZ" sz="3200" spc="-1" strike="noStrike">
                <a:solidFill>
                  <a:srgbClr val="000000"/>
                </a:solidFill>
                <a:latin typeface="Calibri"/>
              </a:rPr>
              <a:t>– hurt or be hurt - I am dangerous, I am the boss, I’ll make them suff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Flight</a:t>
            </a:r>
            <a:r>
              <a:rPr b="0" lang="en-NZ" sz="3200" spc="-1" strike="noStrike">
                <a:solidFill>
                  <a:srgbClr val="000000"/>
                </a:solidFill>
                <a:latin typeface="Calibri"/>
              </a:rPr>
              <a:t> – hide or be hurt - shut out people, shut out the pain, I can’t take it any m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Fool</a:t>
            </a:r>
            <a:r>
              <a:rPr b="0" lang="en-NZ" sz="3200" spc="-1" strike="noStrike">
                <a:solidFill>
                  <a:srgbClr val="000000"/>
                </a:solidFill>
                <a:latin typeface="Calibri"/>
              </a:rPr>
              <a:t> – outsmart them – charm and disarm, act dumb or crazy, insult and provo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Follow</a:t>
            </a:r>
            <a:r>
              <a:rPr b="0" lang="en-NZ" sz="3200" spc="-1" strike="noStrike">
                <a:solidFill>
                  <a:srgbClr val="000000"/>
                </a:solidFill>
                <a:latin typeface="Calibri"/>
              </a:rPr>
              <a:t> – band together – follow friends, a leader or the crow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alibri"/>
              </a:rPr>
              <a:t>What can help? </a:t>
            </a:r>
            <a:br>
              <a:rPr sz="4000"/>
            </a:br>
            <a:r>
              <a:rPr b="0" lang="en-NZ" sz="3200" spc="-1" strike="noStrike">
                <a:solidFill>
                  <a:srgbClr val="000000"/>
                </a:solidFill>
                <a:latin typeface="Calibri"/>
              </a:rPr>
              <a:t>In a classroom there are no magic remedies</a:t>
            </a:r>
            <a:br>
              <a:rPr sz="4000"/>
            </a:br>
            <a:endParaRPr b="0" lang="en-US" sz="3200" spc="-1" strike="noStrike">
              <a:solidFill>
                <a:srgbClr val="000000"/>
              </a:solidFill>
              <a:latin typeface="Calibri"/>
            </a:endParaRPr>
          </a:p>
        </p:txBody>
      </p:sp>
      <p:sp>
        <p:nvSpPr>
          <p:cNvPr id="63" name=""/>
          <p:cNvSpPr txBox="1"/>
          <p:nvPr/>
        </p:nvSpPr>
        <p:spPr>
          <a:xfrm>
            <a:off x="457200" y="1357200"/>
            <a:ext cx="8229600" cy="52149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Calibri"/>
              </a:rPr>
              <a:t>Consistency – routines, rules, boundaries, follow through with promis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Calibri"/>
              </a:rPr>
              <a:t>Honesty – the only way to build trust, admit mistakes, apologise if you need to</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Calibri"/>
              </a:rPr>
              <a:t>Humour – laughing about a situation can often break the tens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Calibri"/>
              </a:rPr>
              <a:t>Flexibility – sometimes you may have to back dow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Calibri"/>
              </a:rPr>
              <a:t>Warn of changes - Sudden/unexpected surprises can throw them – give plenty of warning of changes to routin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Calibri"/>
              </a:rPr>
              <a:t>Be shockproof – don’t get phased, appear in control, don’t panic. Kids love a “show”- don’t give them on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85840" y="213840"/>
            <a:ext cx="8229600" cy="6357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Be human – by example you can teach these kids how to behave in stressful situat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Teach the kid what is appropriate and no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Practice or role play scenarios and situations so the kid knows what to do to be successfu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A Contract can help change a targeted behaviou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Words are powerful – they can hurt and he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Try to connect the behaviour to the feeli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I sometimes bug, annoy and give cheek until they learn how to cop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Minimise the negatives accentuate the positiv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Don’t give up on th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1:42:47Z</dcterms:created>
  <dc:creator>Administrator</dc:creator>
  <dc:description/>
  <dc:language>en-US</dc:language>
  <cp:lastModifiedBy>Administrator</cp:lastModifiedBy>
  <dcterms:modified xsi:type="dcterms:W3CDTF">2009-07-21T00:06:04Z</dcterms:modified>
  <cp:revision>125</cp:revision>
  <dc:subject/>
  <dc:title>Kids Stuff Up!  Get Over It! </dc:title>
</cp:coreProperties>
</file>